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31401"/>
        <c:axId val="79945355"/>
      </c:barChart>
      <c:catAx>
        <c:axId val="56314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945355"/>
        <c:crosses val="autoZero"/>
        <c:auto val="1"/>
        <c:lblAlgn val="ctr"/>
        <c:lblOffset val="100"/>
        <c:noMultiLvlLbl val="0"/>
      </c:catAx>
      <c:valAx>
        <c:axId val="799453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314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BF98-D0A7-41DB-8A8D-E0A53B0C4B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E712-287E-4933-90E1-F0D30FF81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602E1-FA2F-4F27-BE42-4FBC556C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427C-5087-4620-B63C-E8D5EEA00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140A-E69A-43BA-8A52-5B07F7566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05FB-4CF4-4B61-875B-C6435C9F4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5FB8-1FA5-4F58-942C-93F3C540A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3CB0F-F943-461A-AFA7-27E73ED9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B095-40F1-4D6F-BEE9-D29B9A70A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63E-AB45-4CEF-B6E1-8A053A497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15EA-7984-499D-932A-D6546648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5D32-C628-48ED-947C-F5F40B513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3D5C2-C088-4324-BDEF-AE25268D3B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