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075303"/>
        <c:axId val="83849920"/>
      </c:barChart>
      <c:catAx>
        <c:axId val="360753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849920"/>
        <c:crosses val="autoZero"/>
        <c:auto val="1"/>
        <c:lblAlgn val="ctr"/>
        <c:lblOffset val="100"/>
        <c:noMultiLvlLbl val="0"/>
      </c:catAx>
      <c:valAx>
        <c:axId val="838499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0753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C08F-8679-41AC-84C2-AC39A984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3859-92D6-4F87-8F1B-A66987474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ACF1-C289-41BD-AC7E-E6C0997C4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AFC0-7BD1-4D70-AA22-1771AF18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2217-1899-47E6-84B8-5FB5BB36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F413-1688-4A7C-AF62-0590FAE6F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EDD8-AD31-4457-8DAA-44045E70F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FE10-6AC7-4AA0-A217-A3ABD687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47AE1-0E96-43A9-9EA6-111E3C7A9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C4C4-A5DB-461A-B261-90E1E9A3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B16C-E7F5-4ECD-9DD0-5976D00E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CB4E-C897-44FD-AA86-C2B67029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2DFE8B-7CE7-4A0D-81E6-5BC58F7A518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