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1015"/>
        <c:axId val="3470204"/>
      </c:barChart>
      <c:catAx>
        <c:axId val="72901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204"/>
        <c:crosses val="autoZero"/>
        <c:auto val="1"/>
        <c:lblAlgn val="ctr"/>
        <c:lblOffset val="100"/>
        <c:noMultiLvlLbl val="0"/>
      </c:catAx>
      <c:valAx>
        <c:axId val="3470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1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74D-3024-454E-B3DF-4A325A9B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F86-6B1F-40AA-9FB0-B783A340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888-8A54-4391-AA6E-E886A7B7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5B9-0286-40AC-9E2A-59DE9409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A8E-B8F6-4C3B-A3E4-4F91C90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7A8-DCAF-4C23-B8FE-CAE9724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090-001A-4D60-8C20-BE04380F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DEE-7A20-4010-AAFF-FAD9D32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506-5BC6-47D6-8348-A12ED2F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DA7-C6A1-4873-8A4F-BBFD350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79F-C172-4EF7-89E0-1D5AD02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28D-E44E-46E3-ADC6-BE6D1CA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332AB-3664-4211-8503-046E566C2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