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74880"/>
        <c:axId val="47585937"/>
      </c:barChart>
      <c:catAx>
        <c:axId val="96974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85937"/>
        <c:crosses val="autoZero"/>
        <c:auto val="1"/>
        <c:lblAlgn val="ctr"/>
        <c:lblOffset val="100"/>
        <c:noMultiLvlLbl val="0"/>
      </c:catAx>
      <c:valAx>
        <c:axId val="47585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74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E88-C8AA-45FC-B8B5-BB580809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C00-C409-463B-A315-F505CD1F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45D-95C1-416D-A330-0A5F4FAB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291-C999-4758-9AC0-7C665FA5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B525-BD26-409C-90D7-2C74637D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EAD-2CFB-4809-AA0D-CF843432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FCD-C3F7-4296-9CF5-51EED36C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09C-E849-4304-88E2-9D4C0FDC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982-E144-4438-96A7-6D7D9207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957-3977-4004-85DE-C91BD8E6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9C3F-D996-40BA-A307-7D5A00FF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B3A-A382-4058-9F9C-D7D0C0E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D9C52-032C-4026-B5FD-7AFCC5F92B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