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96315"/>
        <c:axId val="13621834"/>
      </c:barChart>
      <c:catAx>
        <c:axId val="63596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21834"/>
        <c:crosses val="autoZero"/>
        <c:auto val="1"/>
        <c:lblAlgn val="ctr"/>
        <c:lblOffset val="100"/>
        <c:noMultiLvlLbl val="0"/>
      </c:catAx>
      <c:valAx>
        <c:axId val="13621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6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546-72AC-4DD5-A3FF-A1D76917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B73-4AA9-47A2-B1DB-97C8C753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7AF-E9D6-42A9-BEC0-7D52E54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FF9-295F-4F49-A90D-3F201395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6DB-8453-48F5-B272-44BBED1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F77-DAC3-441A-A92B-879DD9AB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BBA-0F50-4B5D-818F-D42D13BB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90B-52F9-479E-8686-2DF7B851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B25-9AC5-466C-84B9-991748EC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AE0-B1C6-4162-A67F-3EF326A9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B1E-231D-4219-A995-72EDD4C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E16-1081-466D-831D-A9202E2B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19DA2-8266-49FE-83E6-A270C07945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