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93248"/>
        <c:axId val="97680752"/>
      </c:barChart>
      <c:catAx>
        <c:axId val="17932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680752"/>
        <c:crosses val="autoZero"/>
        <c:auto val="1"/>
        <c:lblAlgn val="ctr"/>
        <c:lblOffset val="100"/>
        <c:noMultiLvlLbl val="0"/>
      </c:catAx>
      <c:valAx>
        <c:axId val="976807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932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61D6-F446-49F5-BC20-551C58FBD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1011-CF86-4D38-8C1D-B7EAC37B7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9342-194A-4FC5-B430-1298E165A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92CA-A388-4D8C-9E40-DA6D64CA6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8C31-7CF6-447E-B865-06E96A415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0A4E-9CB7-496A-9A65-821D69E90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FBD7-0152-4FBA-B31D-C529F9670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D25F-AD3A-424A-BBAF-FB08654C8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C9A2-A376-418B-AC87-BDCFCEAC3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5B3C-621D-4861-A280-2CEF2FDD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63AC-F40C-47EA-8B36-20DC35CD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FF9C-371B-4C61-BFE9-9BD5A112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332618-3F3F-4039-B94A-6F598E01046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