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06321"/>
        <c:axId val="40908883"/>
      </c:barChart>
      <c:catAx>
        <c:axId val="876063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08883"/>
        <c:crosses val="autoZero"/>
        <c:auto val="1"/>
        <c:lblAlgn val="ctr"/>
        <c:lblOffset val="100"/>
        <c:noMultiLvlLbl val="0"/>
      </c:catAx>
      <c:valAx>
        <c:axId val="40908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063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D42-11CC-4DD0-8F42-323FC6EC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9BC-727A-4980-AE9C-7E4F8262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22D-A978-4994-98A5-F82816C9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B26-990C-4691-BC9C-7C8E3851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F433-027F-4DA0-8D74-B1F00F3D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7564-B8C7-4114-87A5-F86F9E94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562-22D2-46D2-A1D6-E66B2A98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4558-0CC4-425C-A1E1-623AF549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FA28-E8EF-467E-AB65-D3FF54F6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119-5432-42CA-9E63-30272203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6DA3-3E2B-44BF-8FF7-469D0510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F07-1ACC-4D7B-9AD2-F4BE09FD4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2E5A9-C083-4A90-81F6-41A45F563D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