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83045"/>
        <c:axId val="55439901"/>
      </c:barChart>
      <c:catAx>
        <c:axId val="16283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39901"/>
        <c:crosses val="autoZero"/>
        <c:auto val="1"/>
        <c:lblAlgn val="ctr"/>
        <c:lblOffset val="100"/>
        <c:noMultiLvlLbl val="0"/>
      </c:catAx>
      <c:valAx>
        <c:axId val="55439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83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B56-5161-4296-B46D-CCCE1087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39E-F12C-43A2-9AAA-6C4A4D1D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465-6D80-43EC-A0E7-ACF8A817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2F6-7F0C-46B2-99F5-34ABEF3D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309-E6E7-4D34-8C35-91DD34F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EC4-D949-46CE-879F-536D7703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31F-7B0D-4823-AE1B-89DC6E86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CB4-6092-40DF-B13E-FB8BF956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556-2943-4B35-BB81-9A1F500D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CD8-2EE1-42CA-A4C1-B89E43E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94A-7A02-48FD-9F99-4D15A09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042-B7AD-4805-BB64-F434F229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423EF-ACF4-4BFC-92FC-C963D897DF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