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70415"/>
        <c:axId val="32082150"/>
      </c:barChart>
      <c:catAx>
        <c:axId val="58070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82150"/>
        <c:crosses val="autoZero"/>
        <c:auto val="1"/>
        <c:lblAlgn val="ctr"/>
        <c:lblOffset val="100"/>
        <c:noMultiLvlLbl val="0"/>
      </c:catAx>
      <c:valAx>
        <c:axId val="32082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70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B08-AD99-4731-BA19-64C2766B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0A8-D319-4A18-82F6-475AB43D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F4B-B7EC-44C3-94E6-ECAEB2CB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C61-8E67-4A99-BFDE-1AAE1868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91B-97E2-4029-A4BD-B8B4BEE1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4D1-6453-4C48-9CA4-58534274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6D3-F74D-452C-949B-2E82EF4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E02-F753-4657-A629-125643D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FDE-89AA-4282-8D11-8303596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F2C-36FB-4DDA-B71B-4E2FF275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5B8-BBA1-4981-84CF-FA978487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4A6-DEB6-4A9A-9CAC-ABB08A20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FCBB9-FE93-489E-AAC0-B1771A91E5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