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21598"/>
        <c:axId val="37250747"/>
      </c:barChart>
      <c:catAx>
        <c:axId val="49721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50747"/>
        <c:crosses val="autoZero"/>
        <c:auto val="1"/>
        <c:lblAlgn val="ctr"/>
        <c:lblOffset val="100"/>
        <c:noMultiLvlLbl val="0"/>
      </c:catAx>
      <c:valAx>
        <c:axId val="37250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21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BF9-A992-4DA2-81CE-DA1387A8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237-414E-4CCA-A1D3-522A7C98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8C9-A708-4671-BA6F-A66645B5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4EE-C02C-4999-B369-636179BC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BE4-CBD7-49A1-A1B5-0D71DF86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47D-51CC-447D-BCE1-DD523CAF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E3B-3849-4910-8CC7-E139F64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F17-04B7-4A19-B304-4AA8F430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83F-877D-4DAB-8173-B3DF1BE5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073-260A-402B-A7D8-95029DF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385-A558-4831-94F5-20ECFDD6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8AB-3A1F-455A-878D-CCFFF42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9EB74-2E4A-41F5-810F-90BE553CC8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