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515148"/>
        <c:axId val="53476045"/>
      </c:barChart>
      <c:catAx>
        <c:axId val="835151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76045"/>
        <c:crosses val="autoZero"/>
        <c:auto val="1"/>
        <c:lblAlgn val="ctr"/>
        <c:lblOffset val="100"/>
        <c:noMultiLvlLbl val="0"/>
      </c:catAx>
      <c:valAx>
        <c:axId val="534760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151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60ED-81CC-472D-AD7C-476F8F33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19DD-8578-4C77-A2A5-2F6C3F1D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F6C6-AC4B-4266-B99C-21B738BE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A225-5BC1-4315-B2D4-66829DC14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796C-3C43-4839-A110-BE9BC622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65C6-169F-498C-BC18-0FF7B968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7EDA-07BF-4BB2-8AC8-8791B12D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A4ED-FAF8-409B-910F-7A5EABE9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870C-3BBA-4DB0-BAEB-DCDC58FF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9C20-C58B-4DA1-B415-9B592425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A2BB-7401-4C83-9DFA-405A63C6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04C5-DE3A-4034-8D2D-434DA55E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60914-C76E-4C06-8785-69A0E91594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