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29345"/>
        <c:axId val="87775750"/>
      </c:barChart>
      <c:catAx>
        <c:axId val="22229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5750"/>
        <c:crosses val="autoZero"/>
        <c:auto val="1"/>
        <c:lblAlgn val="ctr"/>
        <c:lblOffset val="100"/>
        <c:noMultiLvlLbl val="0"/>
      </c:catAx>
      <c:valAx>
        <c:axId val="87775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29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7FF-76DD-4B0F-9117-85C2B7C9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238-25F4-42A2-814B-F4800525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E5B-B0E0-4401-9515-6EB47004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2BE-98D8-4388-A85A-E6FA080F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1D5-E970-43E9-AD85-D76AAD19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BB2-576C-4632-9FFB-FDDB8126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E54-25DC-40D7-8DC7-326DC654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5A8-D14B-4CC7-8752-80001B78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6DA-A05C-4E3A-9B59-F8AED76A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2BC-AC9A-46AE-BC96-11C15794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04B-28CC-462A-88B5-19B2D8E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B37-DA89-4FBE-A474-ACEA626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21FE1-E890-4C12-B6E1-54AD1069DB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