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9659463"/>
        <c:axId val="97378253"/>
      </c:barChart>
      <c:catAx>
        <c:axId val="1965946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378253"/>
        <c:crosses val="autoZero"/>
        <c:auto val="1"/>
        <c:lblAlgn val="ctr"/>
        <c:lblOffset val="100"/>
        <c:noMultiLvlLbl val="0"/>
      </c:catAx>
      <c:valAx>
        <c:axId val="9737825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65946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FC67-2899-41A9-A6C3-648A75636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937F-B031-473E-8301-7A4D5CC69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4494-2CA6-4594-A4C6-815E5ABE0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C6B2-096C-4816-98C4-971ED85E9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0275-C056-45F4-9112-5D77ADC4D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9D76-3E23-4204-BEF3-6A793E5BE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A2B8-2540-46E3-9BC8-8A61E6F45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C6F2-B958-420D-9B33-91F901C63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E027-E443-447D-822F-96FBFB7D0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6E8A-68F8-4FE3-BB83-307CBC35E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5AE3-9CBF-4CCE-8F73-8F9535CDD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2942-CE09-4BC0-BE03-36A7391E6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944561-CAF2-4C93-BA53-2D257CD2FE0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