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05649"/>
        <c:axId val="70805922"/>
      </c:barChart>
      <c:catAx>
        <c:axId val="91305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05922"/>
        <c:crosses val="autoZero"/>
        <c:auto val="1"/>
        <c:lblAlgn val="ctr"/>
        <c:lblOffset val="100"/>
        <c:noMultiLvlLbl val="0"/>
      </c:catAx>
      <c:valAx>
        <c:axId val="70805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5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4F8-C0F8-4A7C-B740-4585D4A0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6DE-3C2A-439B-A806-39F36F0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574-43FF-498A-AB7F-86068D04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65F-AE80-418E-A600-9CF0AA39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93D-DCCE-4839-B9DB-0FA3FAA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240-0C22-408E-9BFD-2B3D7BA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FFD-9B12-40DE-BF52-4F8E76C7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34B-C17F-4FED-B59C-789C226C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5A7-1FA4-46CD-8783-68A2C065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5C5-E6E1-4ECF-A14A-D1A33997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0B7-56D1-45F2-B407-F7B0C5D7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39E-1A61-447B-867D-B5AFCA9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C0A8C-2517-427A-ABBB-F402071E0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