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1692"/>
        <c:axId val="85323826"/>
      </c:barChart>
      <c:catAx>
        <c:axId val="7016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323826"/>
        <c:crosses val="autoZero"/>
        <c:auto val="1"/>
        <c:lblAlgn val="ctr"/>
        <c:lblOffset val="100"/>
        <c:noMultiLvlLbl val="0"/>
      </c:catAx>
      <c:valAx>
        <c:axId val="853238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16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A4BF-A3F4-4526-84EC-40CF51E3E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1D73-F129-48F1-83DE-4203195C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8782-DF9B-4294-9602-3A6D779CF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8EC2-4EF9-42A5-8858-575AF367C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10BC-9030-4317-9405-29831946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49F8-09BD-4D3C-9785-A60F2276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EA2A-9BA3-4FAF-9D47-161BAA84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C092-1D1E-4123-A7FD-0ABEDB95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FCEA-24BB-4892-B578-B04E62DA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5088-D95C-4B2E-934B-8FFF6A28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FCBB-690F-467D-A3C8-2E92E0EC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B3B4-7D56-434B-98A5-6DA7274F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F8E9D8-24B4-4640-A19C-50BEF5A381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