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13467"/>
        <c:axId val="96387921"/>
      </c:barChart>
      <c:catAx>
        <c:axId val="67513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7921"/>
        <c:crosses val="autoZero"/>
        <c:auto val="1"/>
        <c:lblAlgn val="ctr"/>
        <c:lblOffset val="100"/>
        <c:noMultiLvlLbl val="0"/>
      </c:catAx>
      <c:valAx>
        <c:axId val="96387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13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74D-3443-443E-8100-5F0570C6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4B3-896E-470E-BB60-D9CFB2CF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5FB-AA14-4365-833B-6A47EB36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D4F-F5AF-4DD7-8463-A4948344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00F-A94B-4721-B1F5-F7A2F173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650-47D7-40BB-A7C3-CBCFA2C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662-794E-451E-BA36-BFCEF55D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F97-119F-477E-8B4A-64FB6C5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C98-73D9-499F-8646-E029C9F0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21A-D278-4F0F-A316-0C9D4C2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0BD-D317-4CF1-864C-15218D4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E5D-3A9F-405D-A323-0D104C3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3772A-038A-435A-A4DD-49CA98E2B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