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02249"/>
        <c:axId val="16004517"/>
      </c:barChart>
      <c:catAx>
        <c:axId val="87802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04517"/>
        <c:crosses val="autoZero"/>
        <c:auto val="1"/>
        <c:lblAlgn val="ctr"/>
        <c:lblOffset val="100"/>
        <c:noMultiLvlLbl val="0"/>
      </c:catAx>
      <c:valAx>
        <c:axId val="16004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02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BF5-CF82-43BD-80FD-C143541A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2AF-5BBD-4FEC-BE89-2C5005C7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E10D-00C6-49E8-8ABE-94675380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1F2-FCAF-4E1B-893F-BA70D816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FB7-1FD7-4D8A-BCDA-9503354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CDB-A3F4-4DB6-B02B-48389796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757-76F5-4721-85FB-41E640A2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726-B1B4-47BE-BEC1-AEE5C19B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EE28-8798-4C8A-968F-059AFC62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F8C-73E0-49A0-9A30-0FB32DC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F0C-62E2-434F-9E7C-BCA9276F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137-70C0-4D06-BBDB-400FA6DD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9F028-2F38-47B0-8E63-8BEFAF85DD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