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89797"/>
        <c:axId val="12538661"/>
      </c:barChart>
      <c:catAx>
        <c:axId val="39489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38661"/>
        <c:crosses val="autoZero"/>
        <c:auto val="1"/>
        <c:lblAlgn val="ctr"/>
        <c:lblOffset val="100"/>
        <c:noMultiLvlLbl val="0"/>
      </c:catAx>
      <c:valAx>
        <c:axId val="12538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9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4D2-7D26-4695-A633-6EBC3980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6BC-980C-42AB-8306-6CB4FAF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552-6677-4E3B-8D96-257A5B23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1A3-61A5-40C3-82FD-29D5C8AB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2ED-FB58-48C8-9A87-C8F45300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4A2-9455-46D0-8D7E-C0D58CA2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8F0-B747-4D13-A0CE-1CAA2798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BAD-DBBB-4B86-BDC2-C2ABDF2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65D-D5F9-4665-94C5-007AD2F3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A45-AAB3-4BC8-B6D8-3D2B7C2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C37-5E81-46B8-8F7A-7355948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04F-4317-4A10-BDE2-817A69F6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E8C95-4D1C-4D11-98C0-CE091BFCD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