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337358"/>
        <c:axId val="6128505"/>
      </c:barChart>
      <c:catAx>
        <c:axId val="863373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8505"/>
        <c:crosses val="autoZero"/>
        <c:auto val="1"/>
        <c:lblAlgn val="ctr"/>
        <c:lblOffset val="100"/>
        <c:noMultiLvlLbl val="0"/>
      </c:catAx>
      <c:valAx>
        <c:axId val="61285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373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8923-DD32-4923-AACB-8EA39D9B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BF84-7361-43D6-B531-3D45F11F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13F8-D4D1-4570-8980-23D7A4B6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E934-8561-4855-A627-81B26EB7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B554-7643-4610-AC72-F164BFE1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06ED-29AF-46DB-A071-F4AFA168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97F-8304-442C-B762-A7F377C0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D9DB-D34D-4A41-A15F-661EF26C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4527-8D91-4EBA-8E71-53BEDD78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F0C9-3E96-4121-8598-203A87D1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20E7-F737-4F1B-9F89-C945D54C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3C1F-450F-4751-BCC7-69FA53C8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7FF13-1995-48A0-9C18-565E0C159C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