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414889"/>
        <c:axId val="61615049"/>
      </c:barChart>
      <c:catAx>
        <c:axId val="514148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615049"/>
        <c:crosses val="autoZero"/>
        <c:auto val="1"/>
        <c:lblAlgn val="ctr"/>
        <c:lblOffset val="100"/>
        <c:noMultiLvlLbl val="0"/>
      </c:catAx>
      <c:valAx>
        <c:axId val="616150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4148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39EF-62C1-4DAD-924D-98B0CD3E1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C8C7-1F7E-4FEC-B78B-76CB11E0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46D8-C41B-4A97-BEE0-4B9C0AF89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97A6-AFA5-44DE-B1C7-810A3D959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A461-BE63-4869-90AA-FCFEBC10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E436-B020-4D60-AC29-E356AEFD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2C3F-07B3-4BAA-BCDA-B7C5D2FD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F905-335F-4485-A70C-5F1311CE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5CAE-CA69-486D-AD49-2A4E693A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61BA-3580-4063-9C14-FD36FCF3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9643-8525-4B61-887F-2CCA9BDD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1C14-77D6-450D-A463-36AF19E7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7D7886-0781-4369-9E47-BE75F7E92A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